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FCB-34BC-4B74-A2B2-7837D8F1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859-E7CD-41E0-BCD2-9BBAE1BA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D317C6-E4B1-47AB-AF05-FD804B3E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C93F61-6DDC-4C35-AD61-6C77B348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83B8E1-655A-4476-AE53-89EE0A4D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A8CBB3-2450-4D77-934B-BCE6247B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4807BB-8D2B-4BB5-B9A0-21423752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43EDF4-C307-4685-B51B-9B4F5BCE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114756-D08B-4EDD-B86E-7EF7EBD3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0F25FA-C70A-472F-B521-8E708F5E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5407EF-8A24-4FCB-BE89-F884EB57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D1E0E-83D9-497D-B886-7B789DA2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B77-B0AD-4CAE-8BCD-F00D5736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EB207-12EE-4E91-A4C6-C11DBEAE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8D114-7129-40E8-AC75-2B196F0A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DA328-1065-469C-848E-B2AED4F5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C2DCF-A529-44DF-A846-B03B76B6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F9551-D932-4594-A090-CB71C231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A0794-C29D-4007-8A2A-46234444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DB84E-10F0-4AEB-B6DF-263AB571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156C8-92B7-4548-9967-8F002096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A24CB-8707-4A99-8996-C30C29A8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FD6B0-7530-4674-82E1-A3030B5C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510-D2EF-40CD-BB05-AB3BCF16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0DC7C-BAAC-4CB7-A79D-C9DC2972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3858B-C06F-4345-813F-A392BF5B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03E00-EF33-4F08-9153-9DD2379B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FE8B0-DCC6-4295-B5D3-D468EF14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ABAC0-94D6-4BF9-B0E2-787F58A7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E3438-6193-48CF-B127-9347E120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D11D0-1683-4C4D-A083-348CA509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4EA49-CF6D-44A2-8092-33DEA49B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CD2-307D-403B-9DE3-ABC9033E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C7FCC-3F01-4351-9460-92CCB63F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0005B-FE99-47AC-9120-FFBB7592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749E6-867F-44CD-A6DD-AED7E728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5A932-DB7F-446A-86EF-062D47D2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9E60A-3932-47A7-B5E0-7629796A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95BE0-C6AC-406E-925F-16A144C0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F0ECA-FE02-4798-971B-30291A1B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0E7C7-D035-4DC7-959F-7FBCA170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D9FBD-0F65-4942-BBAF-D640C437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AF4A1-531A-4AAA-BF95-71E53EA4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078-0F93-4A87-808E-B94F1E93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5EE3-BF8A-4ABF-82BC-5829DB8B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A97A6-259E-4059-B287-70C867BB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CA406-4C39-4F67-8C78-4E2501F7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0AC2A-C3D5-4A53-A096-AFF63C30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AF1C9-D162-444D-B98E-A06DA2F7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E235E-BF44-474D-B51C-67AA381E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79A38-61F5-4619-8B3C-DC1F895B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450B9-7074-4EAE-A653-8D008055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8CDAC-9091-4834-B021-CC3013DE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DD5E7-9AE9-4145-848A-C97209C4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180-54AA-4A3E-9B6B-92AD2FCC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7F08B-73AE-4CE7-80A9-6E8C3538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4F0C8-072D-40D4-A56E-93686EB3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CEB84-42F9-47D7-B474-3001B422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53664-73B7-4A5A-B8C5-0A6A1560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7A46B-3A0B-4D9F-885C-B2024C84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8E431-BEF1-40F3-A963-0DF877BC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DE9C-7865-4CCA-BB3F-87B6425B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3842D-2A43-4AA8-8F96-456353C4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CB2DF-B620-47B7-9448-7D93E466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99B4A-9D17-4CF2-908D-B0D0AB3B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1FC-6F05-49E3-BA2C-599E2C0A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51FC3-90BD-4EA7-AD88-96B437F6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82789-D731-4550-BB5C-FC804478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5C0F4-6FF6-4662-8858-A4BE52FC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B28F3-55AA-48B3-8D1E-ED4A9343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C0DFA-D562-42FB-8C03-208CAB35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F1E54-AFE4-4D5C-8FDC-CAF8A7EA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6D56E-5BD3-47C4-87E7-B2B71D1B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E0D32-C4CA-450F-947E-8C32A26F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BD9EE-4D75-435A-99F1-84C3EE78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0BFEE-4555-4CD5-99B8-87BABC2E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108-090D-4A1B-B031-E191ECAB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5285A-92EB-4E84-B6A5-1DF7ACE3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55C13-9BCF-438F-B8E1-2B9543C2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78B56-3298-47A1-A2BC-5216C61D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02FD2-FC02-493B-858B-264C6D6C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E3621-E9A1-4D73-BFD4-DDDDA879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C02AC-1E6C-4DE4-B954-2251BBD4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3DCAE-9B5A-406C-B977-B321120C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569A7-F923-4C99-B281-D12EF2EE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C6B93-1A27-41DD-AD02-DF930D11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7A915-D090-444C-AA5E-879C2329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8BFE-7D01-47AB-BF6D-BB9EFEA3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3CC67-1899-4B58-8E0D-950A6B43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5CBB5-1503-48F4-8997-43BEB4D5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845D5-AD61-443D-B447-9B18A7A2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C9FD0-4783-4348-B8D6-3ED17EC4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15A25-03F7-48D7-A4BA-D9AF13DE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AB2F9-FD26-4567-BBD6-9D464124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AFDCB-F836-4799-9E4D-F96B6C49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70D87-878B-4B63-8B70-94303403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E041D-C742-4A19-ABAE-DD4B66EB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26A9B-9B31-44EE-AC8C-A37165AD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148-659D-471D-BBD9-31D50CCB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4CFDE-37F7-45EA-8DE5-7840A966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7DD1D-D8B1-45E7-B2F8-4C6F80D6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02D8C-38DA-447B-9266-6717A432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B7909-58BD-41BB-B6A6-54E26EEA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F3DD6-16B7-4BE8-9BFF-55FA6D4F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9DDBB-2E77-4384-AD37-0C13698D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996FA-6E58-4DDB-9B7F-FD06E91D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8784A-07F1-4AEE-A75F-7D746501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4577B-34E6-4AFF-AEAD-6056B716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11BC7-BC18-4589-A1C3-9B3E4A3C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12D-4F85-4749-AB65-930295E5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3305D-9102-4FCA-9065-2914C754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69523-B620-47CA-BAE9-1926E888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16B26-2D1B-465E-88D6-38F9F790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9CFA6-BA38-4F8D-8307-C6CDFF85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E5AA3-E328-4A1E-B6C7-5EE29474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345F0-25BD-44A0-A6FD-5137777D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1463F-93C2-4370-AE5A-7CC3AE82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ACF413-B67A-41FA-835A-D332357D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257465-B0F6-4659-8520-A7B991BF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B35F76-F193-4EB7-8192-65188FE8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0B1D-E2F7-44B6-B504-01F339FB42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5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7A34-DF25-41A0-9D51-F62A443E073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C590-F80E-4535-8361-E6572E2000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34D4-40A3-4521-B506-BB9ED980E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E6CF-9FB4-4A5E-AB3E-FA873807B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1319-4E29-4953-B234-1CD1196C5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FCC8-46CE-4C62-9261-379A6DD4E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3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4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4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4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A8B1-B50E-4D42-BBF6-CB1ED6E7B9B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1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1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2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1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2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2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2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3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2590-2B55-40AD-8C4D-3045B58EB46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8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02F6-4887-439B-8184-38A862A98E4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as Comidas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: Miguel McG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Desayu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el Desayuno me gusta com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1066680" y="4419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toc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2895480" y="3124080"/>
            <a:ext cx="1833840" cy="144468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3048120" y="4572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panque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3"/>
          <a:stretch/>
        </p:blipFill>
        <p:spPr>
          <a:xfrm>
            <a:off x="4876920" y="3200400"/>
            <a:ext cx="1714320" cy="13716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5029200" y="4572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huevos revuel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4"/>
          <a:stretch/>
        </p:blipFill>
        <p:spPr>
          <a:xfrm>
            <a:off x="6705720" y="3200400"/>
            <a:ext cx="1866960" cy="144612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693432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brin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5"/>
          <a:stretch/>
        </p:blipFill>
        <p:spPr>
          <a:xfrm>
            <a:off x="914400" y="4724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685800" y="6216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leche con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Almuerz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 el almuerzo me gusta com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1981440" cy="13161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380880" y="3733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queso a la planc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2971800" y="2286000"/>
            <a:ext cx="1771560" cy="132876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2971800" y="3733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hamburgu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3"/>
          <a:stretch/>
        </p:blipFill>
        <p:spPr>
          <a:xfrm>
            <a:off x="5486400" y="2286000"/>
            <a:ext cx="1295280" cy="137160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5257800" y="3886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4"/>
          <a:stretch/>
        </p:blipFill>
        <p:spPr>
          <a:xfrm>
            <a:off x="7467480" y="2438280"/>
            <a:ext cx="1409760" cy="129564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7391520" y="3886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piz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5"/>
          <a:stretch/>
        </p:blipFill>
        <p:spPr>
          <a:xfrm>
            <a:off x="457200" y="43434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152280" y="61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coca 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e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ara la cena me gusta comer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1523880" cy="148896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762120" y="40384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perro ca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1752840" cy="137160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2819520" y="4114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fi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3"/>
          <a:stretch/>
        </p:blipFill>
        <p:spPr>
          <a:xfrm>
            <a:off x="4495680" y="2590920"/>
            <a:ext cx="1752840" cy="139068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4648320" y="4038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pasta y albóndig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4"/>
          <a:stretch/>
        </p:blipFill>
        <p:spPr>
          <a:xfrm>
            <a:off x="6553080" y="2590920"/>
            <a:ext cx="1881360" cy="138096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6781680" y="4038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s alitas de po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5"/>
          <a:stretch/>
        </p:blipFill>
        <p:spPr>
          <a:xfrm>
            <a:off x="533520" y="464832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8580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toro r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El post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el postre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2133360" cy="160020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066680" y="41911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s galletas con chispas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3276720" y="2511360"/>
            <a:ext cx="2209680" cy="160992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3276720" y="4114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tarta de manz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3"/>
          <a:stretch/>
        </p:blipFill>
        <p:spPr>
          <a:xfrm>
            <a:off x="5943600" y="2590920"/>
            <a:ext cx="1886040" cy="158580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6172200" y="4114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pastel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4"/>
          <a:stretch/>
        </p:blipFill>
        <p:spPr>
          <a:xfrm>
            <a:off x="3733920" y="4419720"/>
            <a:ext cx="1415880" cy="17524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3581280" y="6248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che con chocolate ba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5:16Z</dcterms:created>
  <dc:creator>mcgoffmic</dc:creator>
  <dc:description/>
  <dc:language>en-US</dc:language>
  <cp:lastModifiedBy>mcgoffmic</cp:lastModifiedBy>
  <dcterms:modified xsi:type="dcterms:W3CDTF">2011-04-14T18:12:07Z</dcterms:modified>
  <cp:revision>8</cp:revision>
  <dc:subject/>
  <dc:title>Las Comidas </dc:title>
</cp:coreProperties>
</file>